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9B2-2C8B-41D6-A954-26E6DD12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737-0DB9-4062-8E5C-BF5FABFE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585-4078-4F04-90FC-89814464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40B-5EF0-4EEC-8C19-DAD87914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1587-636B-4850-817B-930C4E4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B0BB-D524-49FD-BF41-A795E6EA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A17E-25F3-4465-9161-6B2C53B4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E164-A150-48EA-BD5A-4E542562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0CAA-8F13-4119-8B09-69780214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4546-05C5-4C62-AC65-3419A9E3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C44C-CD7D-45FE-B9CB-2A7AAF5B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F6C-4902-41FD-B38E-0F9DB593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A4F5-268B-43E3-BAB5-84D3BBA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7BE6-16A4-4D1D-9534-566FE4F5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134C-F40D-4063-A21A-82475FAD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DA9E-A352-4F52-A2A6-7FFCCAB4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2F24-98F8-4E95-B001-AE4B28A1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B5B-6A4F-49D1-9AFC-1A5659AA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726-602F-4358-B2C3-253AC788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BB5-AF73-4E83-92E1-0017131F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46D-DDE8-42F8-A555-8DC6D866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208-AC54-4C08-87E3-6356ABEC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EB5-C735-40FA-976B-7A49D5AC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4FF-C91B-40BF-974C-C0F16045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77B6-D280-4AE0-94C7-2AFF215A09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C2EC-8EB7-41F4-834B-CAA001E678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l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esson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6th Nov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3815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328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546280" cy="395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NAB Part 3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will complete NAB Part 3 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MONDAY 30</a:t>
            </a:r>
            <a:r>
              <a:rPr b="0" lang="en-US" sz="4400" spc="-1" strike="noStrike" u="sng" baseline="30000">
                <a:solidFill>
                  <a:srgbClr val="ff0000"/>
                </a:solidFill>
                <a:uFillTx/>
                <a:latin typeface="Comic Sans MS"/>
              </a:rPr>
              <a:t>th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 NOVEMBER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riod Starter…….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reate a mind map for each stage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utomatic, Cognitive and Associ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reate a mind map for methods of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cussed effectiveness of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ve knowledge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gramme of 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d be able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scrib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4365720"/>
            <a:ext cx="320364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iveness of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You must consider several things when planning a practice to improve your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1 – Clear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2 – Work/Rest Rat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3 – Prog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4 – Motivation/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5 - Feed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284472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ffectiveness of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tivation, concentration and feedback are important factors that affect your performance in any activi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lect one of these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xplain how it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r perform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27640" y="3573360"/>
            <a:ext cx="26272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ogramme of 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Once you have identified a weakness you need to create a programme that will help improve that wea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Before planning your programme of work you must consid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The weakness – is it specific to your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Principles of Training – Frequency, Intensity, Duration, Progressive Overload, Specificity and Adap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.O.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ook at P26 of your bookl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 you improve from the P.O.W how are the practice sessions made more difficul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one of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ssions in the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gram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12000" y="4521240"/>
            <a:ext cx="28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ue Monday 23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Nov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lect a method of practice you have used. Describe what you did to make this practice more difficu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Laura Kirkpatrick</cp:lastModifiedBy>
  <dcterms:modified xsi:type="dcterms:W3CDTF">2009-11-16T12:48:06Z</dcterms:modified>
  <cp:revision>47</cp:revision>
  <dc:subject/>
  <dc:title>Slide 1</dc:title>
</cp:coreProperties>
</file>